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8227-590D-4BD7-A9C0-B0A5EC6FD66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9F35-0432-45FB-B37B-D10C62034567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6575-16D8-454B-A969-6A5CD2576D0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51DE-D84B-4131-A230-C27BF8B88924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3D2-8237-4EEA-883A-B50649CB6F16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DEF6-B12D-4C6C-85BB-F3EF53D832F2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66B-9B03-4A03-A59C-9EE957924311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8CB-B54A-41DA-9E46-4BE9AEF1B0D5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BF2-B636-44EC-84F7-49C3D6B150BE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959-7740-4634-BB61-AD3BABAE48F8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A6D0-C376-42EA-B245-45E7610B2E19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F714-F62F-4797-9CFA-608EB50B454E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0D6-F5A0-4E46-B7F2-31007F35D5DA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5781-0D0E-48B7-AC98-D599B2BF0AA6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347B-2594-4F6D-BE6D-044604B040E9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C18-81CE-486C-8E4E-75BF0C3F5FD4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08B6-4386-4792-AC80-421E3EEFEBC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D7E-391D-4308-BE8C-252496456C41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2DD-0B6F-46A3-B40E-4B79B9BBCE39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37AF-31ED-4009-9742-5FCE77D576FB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ED8-86D7-42A7-8886-EFC12E20EE9F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7847-80CB-483E-ACAE-079DAE26D633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315-3026-4F3B-B0DD-69F8695D1094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B7F4-9F62-44ED-8511-0C145C5BB00C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44B-4EAC-4550-B5A2-DFBA918E22C4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15E-6B37-40EB-97DD-6E929DEE267D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E34C-A6D9-4B51-9CE9-C88978376DCA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80A-FD38-481E-B693-92C9EA3F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7DA-AFF7-42D8-89DF-DBEF8B3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A51-F33F-46DF-B878-F76715DF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B1B-7B04-43A0-BB30-94EC9E7A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EB2-B933-4D65-8E18-AD964EF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152-72F6-4453-AB1D-AF5B203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6A3-7BF5-4ECC-A338-FC6B7D1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B0D-BC39-4A0F-8FB5-923B4F8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B1D-6B7F-43AA-988F-966CB0B9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B73-5A25-4CD7-B93D-4FC3BD0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C8B-33C8-41C3-BD83-E268C0C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E4B-D7F8-443B-B9A3-9005E73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D0C-6E9C-4860-8740-84CA096C53D8}" type="slidenum">
              <a:rPr b="0" lang="ko-KR" sz="1200" spc="-1" strike="noStrike">
                <a:solidFill>
                  <a:srgbClr val="ffffff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컴퓨터는 어떻게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덧셈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,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뺄셈을 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는 어떻게 구현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=A·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22888" t="50666" r="41679" b="20715"/>
          <a:stretch/>
        </p:blipFill>
        <p:spPr>
          <a:xfrm>
            <a:off x="1332000" y="2921040"/>
            <a:ext cx="65768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S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는 어떻게 구현할까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=A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7" name="Picture 2" descr="http://cfs7.tistory.com/upload_control/download.blog?fhandle=YmxvZzM1MTA0QGZzNy50aXN0b3J5LmNvbTovYXR0YWNoLzAvMTYuYm1w"/>
          <p:cNvPicPr/>
          <p:nvPr/>
        </p:nvPicPr>
        <p:blipFill>
          <a:blip r:embed="rId1"/>
          <a:srcRect l="0" t="63743" r="0" b="24374"/>
          <a:stretch/>
        </p:blipFill>
        <p:spPr>
          <a:xfrm>
            <a:off x="324000" y="3141720"/>
            <a:ext cx="84740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한 자리 수 덧셈기 완성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Half Adder S=A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 / C=A·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0" name="Picture 2" descr="http://web.sfc.keio.ac.jp/~rdv/keio/sfc/teaching/architecture/architecture-2007/Half-adder.png"/>
          <p:cNvPicPr/>
          <p:nvPr/>
        </p:nvPicPr>
        <p:blipFill>
          <a:blip r:embed="rId1"/>
          <a:stretch/>
        </p:blipFill>
        <p:spPr>
          <a:xfrm>
            <a:off x="1979640" y="2565360"/>
            <a:ext cx="5329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여러 자리 수 덧셈기는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위의 한 자리 수 덧셈기를 이어 붙이면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 자리 수 덧셈기가 될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네 자리 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를 더한다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3" name="Picture 2" descr="http://macao.communications.museum/images/exhibits/2_18_5_2.png"/>
          <p:cNvPicPr/>
          <p:nvPr/>
        </p:nvPicPr>
        <p:blipFill>
          <a:blip r:embed="rId1"/>
          <a:stretch/>
        </p:blipFill>
        <p:spPr>
          <a:xfrm>
            <a:off x="554040" y="3645000"/>
            <a:ext cx="80503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여러 자리 수 덧셈기의 아이디어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macao.communications.museum/images/exhibits/2_18_5_1_eng.png"/>
          <p:cNvPicPr/>
          <p:nvPr/>
        </p:nvPicPr>
        <p:blipFill>
          <a:blip r:embed="rId2"/>
          <a:stretch/>
        </p:blipFill>
        <p:spPr>
          <a:xfrm>
            <a:off x="530280" y="1773360"/>
            <a:ext cx="819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완전덧셈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Full Adder)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모듈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세 개의 입력 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, P, Q</a:t>
            </a: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로부터 두 개의 출력 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맑은 고딕"/>
              </a:rPr>
              <a:t>o</a:t>
            </a:r>
            <a:r>
              <a:rPr b="0" lang="en-US" sz="2300" spc="-1" strike="noStrike">
                <a:solidFill>
                  <a:srgbClr val="ffffff"/>
                </a:solidFill>
                <a:latin typeface="맑은 고딕"/>
              </a:rPr>
              <a:t>, S</a:t>
            </a:r>
            <a:r>
              <a:rPr b="0" lang="ko-KR" sz="2300" spc="-1" strike="noStrike">
                <a:solidFill>
                  <a:srgbClr val="ffffff"/>
                </a:solidFill>
                <a:latin typeface="맑은 고딕"/>
              </a:rPr>
              <a:t>가 나오는 회로</a:t>
            </a:r>
            <a:endParaRPr b="0" lang="en-US" sz="2300" spc="-1" strike="noStrike">
              <a:solidFill>
                <a:srgbClr val="ffffff"/>
              </a:solidFill>
              <a:latin typeface="맑은 고딕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2421000"/>
          <a:ext cx="5473800" cy="3932280"/>
        </p:xfrm>
        <a:graphic>
          <a:graphicData uri="http://schemas.openxmlformats.org/drawingml/2006/table">
            <a:tbl>
              <a:tblPr/>
              <a:tblGrid>
                <a:gridCol w="1095480"/>
                <a:gridCol w="1093680"/>
                <a:gridCol w="1095480"/>
                <a:gridCol w="1093680"/>
                <a:gridCol w="1095480"/>
              </a:tblGrid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</a:t>
                      </a:r>
                      <a:r>
                        <a:rPr b="1" lang="en-US" sz="2200" spc="-1" strike="noStrike" baseline="-25000">
                          <a:solidFill>
                            <a:srgbClr val="ffffff"/>
                          </a:solidFill>
                          <a:latin typeface="맑은 고딕"/>
                        </a:rPr>
                        <a:t>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Q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</a:t>
                      </a:r>
                      <a:r>
                        <a:rPr b="1" lang="en-US" sz="2200" spc="-1" strike="noStrike" baseline="-25000">
                          <a:solidFill>
                            <a:srgbClr val="ffffff"/>
                          </a:solidFill>
                          <a:latin typeface="맑은 고딕"/>
                        </a:rPr>
                        <a:t>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완전덧셈기 모듈을 어떻게 만들까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asic 1-bit full adder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 = (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= (P·Q)+((P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Q)·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맑은 고딕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92" name="Picture 2" descr="http://macao.communications.museum/images/exhibits/2_18_4_2_eng.png"/>
          <p:cNvPicPr/>
          <p:nvPr/>
        </p:nvPicPr>
        <p:blipFill>
          <a:blip r:embed="rId1"/>
          <a:srcRect l="-2688" t="-9348" r="-2482" b="-12481"/>
          <a:stretch/>
        </p:blipFill>
        <p:spPr>
          <a:xfrm>
            <a:off x="324000" y="1484280"/>
            <a:ext cx="84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macao.communications.museum/images/exhibits/2_18_5_1_eng.png"/>
          <p:cNvPicPr/>
          <p:nvPr/>
        </p:nvPicPr>
        <p:blipFill>
          <a:blip r:embed="rId2"/>
          <a:stretch/>
        </p:blipFill>
        <p:spPr>
          <a:xfrm>
            <a:off x="530280" y="1773360"/>
            <a:ext cx="819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뺄셈은 어떻게 할 수 있을까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A-B = A + (-B)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음수를 어떻게 표현할 것인가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음수를 보수로 표현하면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덧셈 뺄셈을 정확히 구현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 있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보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00...00 - 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0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0000 – 0011 = 110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 + </a:t>
            </a:r>
            <a:r>
              <a:rPr b="0" lang="en-US" sz="3200" spc="-1" strike="noStrike">
                <a:solidFill>
                  <a:srgbClr val="ffc000"/>
                </a:solidFill>
                <a:latin typeface="맑은 고딕"/>
              </a:rPr>
              <a:t>(1111 – 001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= 1 + </a:t>
            </a:r>
            <a:r>
              <a:rPr b="0" lang="en-US" sz="3200" spc="-1" strike="noStrike">
                <a:solidFill>
                  <a:srgbClr val="ffc000"/>
                </a:solidFill>
                <a:latin typeface="맑은 고딕"/>
              </a:rPr>
              <a:t>1100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= 1101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불 대수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Boolean algebra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논리학 체계를 흉내 낼 수 있는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로 이루어진 연산 체계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A+ (-B)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의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1" name="내용 개체 틀 2" descr=""/>
          <p:cNvPicPr/>
          <p:nvPr/>
        </p:nvPicPr>
        <p:blipFill>
          <a:blip r:embed="rId1"/>
          <a:stretch/>
        </p:blipFill>
        <p:spPr>
          <a:xfrm>
            <a:off x="317520" y="1511280"/>
            <a:ext cx="83757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보수를 논리 게이트로 구현하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5640" y="1844280"/>
            <a:ext cx="51847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4" name="그룹 7"/>
          <p:cNvGrpSpPr/>
          <p:nvPr/>
        </p:nvGrpSpPr>
        <p:grpSpPr>
          <a:xfrm>
            <a:off x="2484360" y="2133720"/>
            <a:ext cx="4535640" cy="1511280"/>
            <a:chOff x="2484360" y="2133720"/>
            <a:chExt cx="4535640" cy="1511280"/>
          </a:xfrm>
        </p:grpSpPr>
        <p:pic>
          <p:nvPicPr>
            <p:cNvPr id="105" name="Picture 4" descr="http://www.forkosh.dreamhost.com/mathtex.cgi?P%20=%20P_3%20P_2%20P_1%20P_0"/>
            <p:cNvPicPr/>
            <p:nvPr/>
          </p:nvPicPr>
          <p:blipFill>
            <a:blip r:embed="rId2"/>
            <a:stretch/>
          </p:blipFill>
          <p:spPr>
            <a:xfrm>
              <a:off x="2484360" y="2133720"/>
              <a:ext cx="30240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http://www.forkosh.dreamhost.com/mathtex.cgi?\bar%20P%20=%20\bar%20P_3%20\bar%20P_2%20\bar%20P_1%20\bar%20P_0%20+%200001"/>
            <p:cNvPicPr/>
            <p:nvPr/>
          </p:nvPicPr>
          <p:blipFill>
            <a:blip r:embed="rId3"/>
            <a:stretch/>
          </p:blipFill>
          <p:spPr>
            <a:xfrm>
              <a:off x="2484360" y="2976480"/>
              <a:ext cx="45356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논리회로를 어떻게 </a:t>
            </a:r>
            <a:br>
              <a:rPr sz="4000"/>
            </a:b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실제 회로로 구현할 것인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전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www.lauftext.de/cybernetic-computer/images/illu8.gif"/>
          <p:cNvPicPr/>
          <p:nvPr/>
        </p:nvPicPr>
        <p:blipFill>
          <a:blip r:embed="rId2"/>
          <a:stretch/>
        </p:blipFill>
        <p:spPr>
          <a:xfrm>
            <a:off x="2916360" y="333360"/>
            <a:ext cx="51354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계전기를 이용한 논리게이트 구현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lauftext.de/cybernetic-computer/images/illu9.gif"/>
          <p:cNvPicPr/>
          <p:nvPr/>
        </p:nvPicPr>
        <p:blipFill>
          <a:blip r:embed="rId2"/>
          <a:stretch/>
        </p:blipFill>
        <p:spPr>
          <a:xfrm>
            <a:off x="324000" y="1773360"/>
            <a:ext cx="8499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‘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슈퍼 계전기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’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트랜지스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17" name="Picture 2" descr="http://pds16.egloos.com/pds/200909/21/41/d0097441_4ab78d00a7c2f.png"/>
          <p:cNvPicPr/>
          <p:nvPr/>
        </p:nvPicPr>
        <p:blipFill>
          <a:blip r:embed="rId1"/>
          <a:srcRect l="-3787" t="-8462" r="-3419" b="-8462"/>
          <a:stretch/>
        </p:blipFill>
        <p:spPr>
          <a:xfrm>
            <a:off x="749160" y="1557360"/>
            <a:ext cx="778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전자석 계전기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vs.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트랜지스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자석 계전기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자석에 전기를 흘려주면 스위치를 끌어당겨 스위치를 닫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열어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주는 장치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트랜지스터 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반도체 표면에 약간의 전압을 가하면 양쪽 사이에 전기를 잘 통과시키는 성질을 이용한 계전기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트랜지스터의 장점은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스위치 전환 빠름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스위치를 아주 작게 만들 수 있음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전력 소모 적음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안정성 뛰어남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제조 원료 풍부</a:t>
            </a:r>
            <a:r>
              <a:rPr b="0" lang="en-US" sz="30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불 연산자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Boolean operator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또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입력들을 받아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0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또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의 결과를 내보내는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진 연산자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예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) Y = A and B, Y = A or B, Y = not A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논리회로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(Logical circuit)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불 대수 체계를 구현하는 전기회로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입력과 출력 값은 전기신호로</a:t>
            </a:r>
            <a:br>
              <a:rPr sz="2200"/>
            </a:br>
            <a:r>
              <a:rPr b="0" lang="ko-KR" sz="2200" spc="-1" strike="noStrike">
                <a:solidFill>
                  <a:srgbClr val="ffffff"/>
                </a:solidFill>
                <a:latin typeface="맑은 고딕"/>
              </a:rPr>
              <a:t>불 연산자는 논리 게이트로 구현</a:t>
            </a:r>
            <a:endParaRPr b="0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AND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곱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rcRect l="22888" t="50666" r="41679" b="20715"/>
          <a:stretch/>
        </p:blipFill>
        <p:spPr>
          <a:xfrm>
            <a:off x="468360" y="1628640"/>
            <a:ext cx="81691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OR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합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22818" t="24799" r="42051" b="46025"/>
          <a:stretch/>
        </p:blipFill>
        <p:spPr>
          <a:xfrm>
            <a:off x="468360" y="1628640"/>
            <a:ext cx="8253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NOT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게이트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논리적 부정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22825" t="35415" r="42051" b="35415"/>
          <a:stretch/>
        </p:blipFill>
        <p:spPr>
          <a:xfrm>
            <a:off x="484200" y="1628640"/>
            <a:ext cx="826452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기타 논리 게이트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cfs7.tistory.com/upload_control/download.blog?fhandle=YmxvZzM1MTA0QGZzNy50aXN0b3J5LmNvbTovYXR0YWNoLzAvMTYuYm1w"/>
          <p:cNvPicPr/>
          <p:nvPr/>
        </p:nvPicPr>
        <p:blipFill>
          <a:blip r:embed="rId2"/>
          <a:srcRect l="0" t="38818" r="0" b="0"/>
          <a:stretch/>
        </p:blipFill>
        <p:spPr>
          <a:xfrm>
            <a:off x="1547640" y="1557360"/>
            <a:ext cx="6120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한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 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자리 수 덧셈기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+)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_____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70" name="Picture 2" descr="http://www2.cs.siu.edu/~cs320/images/half-adder.png"/>
          <p:cNvPicPr/>
          <p:nvPr/>
        </p:nvPicPr>
        <p:blipFill>
          <a:blip r:embed="rId1"/>
          <a:srcRect l="0" t="0" r="9907" b="0"/>
          <a:stretch/>
        </p:blipFill>
        <p:spPr>
          <a:xfrm>
            <a:off x="468360" y="3716280"/>
            <a:ext cx="532764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2.cs.siu.edu/~cs320/images/half-adder-truth-table.png"/>
          <p:cNvPicPr/>
          <p:nvPr/>
        </p:nvPicPr>
        <p:blipFill>
          <a:blip r:embed="rId2"/>
          <a:stretch/>
        </p:blipFill>
        <p:spPr>
          <a:xfrm>
            <a:off x="5940360" y="1628640"/>
            <a:ext cx="2808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04T01:00:00Z</dcterms:modified>
  <cp:revision>7</cp:revision>
  <dc:subject/>
  <dc:title>컴퓨터는 어떻게  덧셈, 뺄셈을 할까?</dc:title>
</cp:coreProperties>
</file>